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31D-1B17-4DB2-BABC-5F1D8C44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A78-DEB0-47EC-BFE8-83B3423B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F4F2E-C697-4CEE-ACFB-AB559789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5CF98-B1BE-4607-8AD3-5E1547AF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45338-403F-4829-91BC-B6FCBC47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8D026-ABF1-436A-98DD-BBB1DE8C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0058B-CF0D-41BE-A480-ABC0EDC7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B6935-4F5E-4852-AED8-2E05AB25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BEE6B-E98B-4915-9978-7A73BF60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7F117-C02D-4AEE-B327-F5F48320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15DE9-C821-490F-8AD1-9B008E4F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DB32F-BF62-45AC-8EC9-DF180720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8F2-DABB-4A02-B2B2-2324BF16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CDF54-4A69-4C6A-AD5B-B6E0D8E5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755A5-6428-40BD-8D64-29D9A17C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1CF26-352F-4E8E-A3D0-BFC93CBB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14573-2D40-45FE-BB0A-7FC00C64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50387-4A3D-46C0-A02F-5F135187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3AB4F-C298-4F32-A938-8F89C310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23900-6394-4775-AD11-4461BC0F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87879-BCB5-4FE7-BDC8-75D5422E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D8945-C26D-4E22-BE23-FCB14D4D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D5517-EA7F-4980-AE79-E04B4F18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491-0DB0-439E-987D-8323D156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CF6C6-833F-478F-9AEA-19A6AF3F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C932E-113D-4EC4-B4A8-4AE05F75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1080C-CA75-40BD-A8F5-3097633C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F2917-ADC4-4F91-A439-B6C29109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5BC17-A684-4554-BAB5-81375FA1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BA000-8ED5-479E-93E6-7A841C8F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94E65-FDE9-4F95-A038-812B38F4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96194-C371-4CEC-9FF7-EA49C47E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B2F25-86A1-40C6-ABF8-3A2675C2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BBBCE-116B-4ADD-9282-9F49DC4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EB7E-B0BA-452D-BD3E-09028DF4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6C276-C5F2-49FE-817C-92ACDE1A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780AE-E7FF-47B8-B077-B02C37F2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72F3A-E3FD-476B-9674-DCCE5D1A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FCD6C-963E-49B4-ADD9-B693340C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1BF19-B5C4-421A-97BD-6E52D352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65E45-615E-4322-BE1D-C732DF30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C2DA7-CC7D-47AE-A3B3-35E9C83C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12A03-B9C4-4B52-8788-4579D50A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2E476-C23B-4583-AB2F-9BFEF464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D893F-C242-4635-8BC6-B7E5249C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2E6E-DEED-4189-A7F1-A214C144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535B1-3998-4A26-9190-327D59A0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0FA24-5AAC-497F-8BBD-76D35362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71DB1-CE03-41E3-85C6-B62E6447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908B5-9457-433A-9F28-454A77DC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EF4CB-43A4-46E7-A544-5BC2BA2C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03372-09E7-4483-986A-E011AEDD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75E0A-0B93-4C0D-8CD3-8EAE790E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B90AD-2820-4EE3-8C77-0DB9B0A9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9EF4B-2650-45CE-8A59-2C336BB2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8FC0E-6232-4870-9D7E-7B21B886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6408-862F-4E02-B138-67E7AA61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94469-FD12-4CCB-832C-AA924BAE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47B14-383C-4BE6-BF51-C9863C26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6637E-64F1-4BE4-AD5E-5A21ADA0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93A06-98EE-4F7D-A739-2010460F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633A0-9CB3-4B6E-AF7A-3EA1D668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0A567-4FEB-46E8-92D1-8A87F54B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7BD05-AC6B-405D-B74A-114FCC2D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CF366-876B-4F7D-A962-6E07FB66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3D77B-90FF-46F6-926B-8DE59182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A6C74-965E-4934-A718-0BB26238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D772-A66A-4472-B841-5101635D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48B28-F15B-42D6-94D1-0BC974F9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5B9D6-428D-4A52-AC27-0E956516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69D234-FAF5-43A8-9D0A-F85844F6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36F2B-8991-43F9-95EE-751FBB8C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22FE6-3213-46B3-B8DB-FB28BFC4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AF02A-D5B3-4875-9DFD-40FBC013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196AC-B137-4F79-9290-DC5E95D3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B488A-A904-4B78-BA65-D8B99E1A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4BB54-F06A-4430-9747-122F1D44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DCF4D-D188-4459-BA03-BC4499FA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EAA0-C113-4B92-9263-7E031347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E7CC0-B5A1-4AB7-9FE8-87F99E51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88D52-2E8F-406D-A18E-264D0EA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B9F3B-CFFD-4FFA-BE85-C07E8465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030C88-6799-487E-A4F1-7E023A54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7E91C-8F34-4172-8046-AB231CF5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20AF6-D15C-4AF0-9E4C-1612C83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A77E6-52B2-4613-B3E0-2CF69AA4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D5E76-396C-49DD-87AA-473FD0BB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40310-B5AB-48FE-B90E-90F77B17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87B2E-E559-40A3-8BAD-CF013E1A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374B-80B9-477D-ADDB-ADE930E9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12E9E7-FB2A-43F3-A292-9DF3773A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08171-3E86-4EA9-B5C1-2061D22C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EC701-4B74-4F62-A0CE-08733D81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7C6CF8-17E7-408A-8432-A8AD162B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6D3A2-FDC9-49B0-92ED-CFE29CD7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DD5410-BB3C-45AF-A1FF-11771466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1DC92-4EFE-4B89-A04B-0CA4908D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9DF72-7E55-464E-838A-1FDCFF12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406E69-1DA3-4A9E-AFA3-EBE1CA02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9AA19-AAFA-47AC-8BD5-AAED8687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2D17-E214-4D5B-B63D-2CEC1D3B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7124E-1AA7-4502-B730-401E2AFB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44A85-6150-4FAE-AB26-7EE6D019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B6FCF-EC3C-4279-9E7E-568434B3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C9976-5647-4AB0-A765-1FB66ED1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F6224-9724-46F9-B8AD-5695991A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803C5-610A-462C-B2D6-4BF15083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BADE5-BC63-4A3C-B1A2-6F1FAFC3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EE5AB9-5474-4633-BAEF-6722AC8B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BBF85-743A-4BF8-9882-1D0C540F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539DFA-0192-48EB-A275-6CB0AEAD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F45-FF60-4F30-B59D-FA2F87FD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6BE9-8DC0-497F-8271-53FAD84B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CE13F-E64A-47BA-B614-1776B378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8A6A2-4D7E-4314-A05A-E74D1FD8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2DBCD-27E5-491F-BDF3-41843238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15CA67-C4B2-44E3-945A-9E2E9C62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2A74FF-29D1-4C61-A9EF-73613850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6F200-2506-4789-8E6E-76F292A7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DBD39-2A39-4417-BB0A-C46891C3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17E7E2-1242-466D-A570-95EAED82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80E59B-F6EC-4B23-B3B2-44CCB3A9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90751-8DC8-4927-9215-5C327304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476A-6131-4455-8E3F-BADC036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11D6B9-EC24-46E1-8957-8531829B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6CD52-5086-4855-BC68-415D9C3B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FFE420-9A6C-4682-BEA6-2E660F2D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6FB16-AB32-4859-81FA-0B06538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9011B-675C-4032-9E90-0859744D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C6AF4-30A0-4D9A-83E7-838C18C4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C46EB4-94C1-4890-9BAE-40972CED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497F78-5BE8-45D8-9B60-70B91118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2F7C76-C8C6-4FE4-ABFB-53B9DD2A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ECDEA-266F-401D-8694-F9485CAF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AE64-CD49-4EBA-BED2-C76BB1D7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CF1D51-9D19-49AF-871E-28FF83BE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39BE3-867F-4BCE-8750-020A7FDD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CC2FB-EC63-4E44-A314-62276B1A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A33E7-D365-4D01-93F9-E3BBF5F6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244774-76D0-4DB4-B7DC-9DA2F35E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F25973-C0BA-4BD5-862A-CA748308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82A12F-C003-4B2B-A791-535990D6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565324-EF6C-4F5A-83AD-37A5267A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B56EED-D2D6-46BD-8168-55696D52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D9DF-03BE-4184-9036-E701AC3D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A548-F1B6-4FF1-AACF-EA0E149B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380B-1C18-42A2-8473-3A9EE323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053CB-BE38-43C5-AC2C-CF52C94C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A96A-AE9B-4893-A15E-4026071B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035B-1B22-4A97-B148-CC7E8484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9C70-797D-464E-B4D0-DB50AE3E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B2B-435D-4338-BD9B-11D0C82C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F109-61F2-4483-8B71-832A39D0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FD96-6185-4F22-B412-8573570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9BFC-D4DD-4DAC-B184-0B78FF60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694C-4889-4021-9A7F-227274BE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CF28-72D0-49EC-8AAD-77A6359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51402-E737-4E36-A24B-D1E0AB3D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1E93-E229-4631-A850-E81CA369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B746-F3CE-4F17-A4A1-F2C13649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90480-A92D-4083-A91A-5C38B1C9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2507-A940-4C37-89A3-2C31203B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6CA-4297-4BD8-80B2-6BDF8B36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F14C-ECA1-46AD-AB4F-0F678653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4D5AD-DF54-48DC-8A71-1587BA1A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C9163-5277-4141-AB29-5229FD65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0333-F831-498C-B0F6-4092223C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C8D1-41C8-473C-8EE4-5CEA6A9D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97C7-108E-4856-BD7B-0F9ED201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82E6F-B2E8-42CF-A97C-4CDF93CF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3FB5-F530-4279-8545-B0C8F930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31613-AE83-4C0E-8748-9F38AFE7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1F1FA-BE01-4E47-B57D-0CD22DAF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991-969C-46A1-B241-CA69371A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75FE-B217-41FD-B02D-13B6B4DD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602A3-3BA8-4340-8D7B-08966968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C6846-02B0-4B32-8101-7F4DB72E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EDF18-101A-43F9-9C57-E25C7E7B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0CFF2-39C5-4EC9-B4A9-D749B31E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5BAD1-0AF7-47B3-B3DB-64A50ED5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173CE-78B4-4096-A17B-24FA4FAE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E7CB0-D43F-49A2-9314-52B54C59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4E79-63E7-409E-845E-834E6A60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D5765-0C57-4C9C-8586-223F8674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614-1A2E-4778-849D-6B6286CE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E3D71-766A-4F4D-AFF7-CDFB8BEB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7598B-9B42-4EF2-B458-DF8B833A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49A23-6B08-42EB-AA7A-2D4F0D08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36BF3-2D58-4F80-AF5C-B7CF9A2E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E70AF-6009-4180-B1C2-552ABF26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3D452-10F8-4B14-8CD7-F85B3A68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A501-FC6D-40FF-BB91-6770D57A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40C4A-ABCF-4E72-85DA-F523A630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2C352-E387-4A1C-BE1B-F5578310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97C94-F89D-4DD5-8D6F-C5DB0F88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FCD-A059-415A-BBCB-41CBCAAB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772B-1B41-45A1-9EFC-2B3CE55A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214E7-CBC7-4292-BF24-164DF28C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929BC-6B88-4821-9E9F-BC2339D6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41B87-44AF-45D9-B80F-6170E35E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DD599-590F-42DD-86AE-AA9B60AB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B5C9E-7863-42AE-9699-DFDCAC11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59221-6FB3-464B-B879-4509E82C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9C2EF-4475-4DE3-B76D-30D23E3C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3D3F6-7123-440B-8A46-2AD6553D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66280-4D25-4136-A4F2-33AEB78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DEB-0C5D-4846-9259-7B9A001F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89C91-8710-48DE-8404-3ED3AC6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3A28E-406B-4514-A1FA-17F3FDE2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A4742-3F9D-4646-ADA9-43664719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04425-2F08-4B5F-BC56-AD527002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E4FEE-3568-4B1A-83E8-DA715696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35FA0-B23B-4AFA-856B-2395EBC5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55BBF-4BF2-4C20-9690-0BC8DD6C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3DB1B-C5B5-43F1-A2D6-DD8F6048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2C63F-21CD-4D5B-89E3-38428A9F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EDDF0-8102-45E1-81AD-5BEDE399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7D2-946B-4835-BAA4-8243E32B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F1D6E-D5F0-4BAE-ABBA-89B970FD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A875D-B7E1-4811-A7CC-1D6A02C7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21DC3-2DA3-476C-B85B-9AC5DEC0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CAC55-8C40-4B1D-9F85-EC2E2E75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8F614-9B35-4C51-ACFB-4FDE32A1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37B53-6A3B-4504-B28E-475D7D32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3DB7B-EFE4-42A3-A685-063CA8CE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54275-FA81-4BB9-B7FA-35631DE6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359D6-8BCC-4644-80B0-0DAFF890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B9CD5-7315-4525-8928-61AD700A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9F1A-1611-44F7-AA58-DA5DE66AEA5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8151-187E-441D-BDF3-7B2BA2BD390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376B-372E-42A0-B8CD-1577013862C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B47B-4434-41BC-B28D-86C28AA556B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A84F-24FD-4D4C-B420-13CCBBEAF46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A6C4-51DA-4CD8-A05F-D1A60A56DE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B50C-8AB5-453C-ABF4-7717288BD3E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7CEC-8988-48FE-A10A-0783069D0D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11F0-5861-4F53-9BAE-FEF339F6972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6885-23F5-487F-B09A-838D671810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34E9-00D4-4FCD-AC54-0734930601C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B073-938B-4430-AEED-DDDC702EC8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F533-EA21-4544-B24D-612E5183270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C0C9-A9F6-45CD-9A75-0463CE704FC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70D4-A9CB-4259-BC5A-42E9015F7DB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43A8-CCC0-4C74-9ACA-C6696343E7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D7FA-176D-4F75-AF67-A5E59442906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07DD-4192-43E9-B734-C5FB2227FD9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136C-2633-4ED0-BD0F-B91168EB390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0219-EEB1-4FB1-81A5-5C785FF617A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C6D5-C852-482F-9A70-29BB30268A3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36C9-B472-4C03-81B0-BEE5B1E1736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0BB2-85A6-4186-8D98-3BF84EE7E5E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12E7-59BD-41E7-AD41-B53E7EBFA87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A7F6-7814-4B62-AF5F-7B70320F16C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0F7D-7C33-4FFA-8B7C-2A4D766E6D7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55F5-A8CF-47D2-B3A6-CB962058B94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6873-FB7C-4160-816E-9FECF223DA2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E2DD-33B3-49C2-9CC8-2A8626AC1CA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8A62-8608-4095-AE71-A8C9ED6C3F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498B-E31B-41EF-AA92-FD1A7B29E67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48F7-982D-4509-B2A4-16D8D5E8527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C56A-B91C-4367-80C2-5365FD46BF2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2FD0-8F4A-4799-BB23-83FE9BED58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198D-FFB8-4AEF-B7C0-121B75EB981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84C9-5C69-4E3F-B8FA-A1B72C6735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C1C1-11AF-49F7-B787-A59B6284794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26C4-B7D8-404E-B478-4C1487C688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E2C8-F5CB-48F9-A321-FB6024FDCFA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0" name="Picture 4" descr=""/>
          <p:cNvPicPr/>
          <p:nvPr/>
        </p:nvPicPr>
        <p:blipFill>
          <a:blip r:embed="rId1"/>
          <a:stretch/>
        </p:blipFill>
        <p:spPr>
          <a:xfrm>
            <a:off x="495360" y="351000"/>
            <a:ext cx="815328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9DD3-A459-4121-908B-83E8569193E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32360" y="188640"/>
            <a:ext cx="42069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 Narrow"/>
              </a:rPr>
              <a:t>ETAPAS INICIAL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219280" y="981000"/>
            <a:ext cx="3924360" cy="50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asta la formación de 3-OH-3-metil-glutaril CoA 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NO ESTÁ COMPROMETIDA A LA SÍNTESIS DE COLESTERO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similar a la cetogén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ducción para formar 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MEVALONA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etapa crítica que compromete a la formación de coleste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o todas las biosíntesis, consume NADP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9" name="Picture 7" descr=""/>
          <p:cNvPicPr/>
          <p:nvPr/>
        </p:nvPicPr>
        <p:blipFill>
          <a:blip r:embed="rId1"/>
          <a:stretch/>
        </p:blipFill>
        <p:spPr>
          <a:xfrm>
            <a:off x="179280" y="297000"/>
            <a:ext cx="4916520" cy="6372000"/>
          </a:xfrm>
          <a:prstGeom prst="rect">
            <a:avLst/>
          </a:prstGeom>
          <a:ln w="0">
            <a:noFill/>
          </a:ln>
        </p:spPr>
      </p:pic>
      <p:cxnSp>
        <p:nvCxnSpPr>
          <p:cNvPr id="880" name="6 Conector recto de flecha"/>
          <p:cNvCxnSpPr/>
          <p:nvPr/>
        </p:nvCxnSpPr>
        <p:spPr>
          <a:xfrm flipH="1">
            <a:off x="1331640" y="4796280"/>
            <a:ext cx="1242000" cy="10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881" name="9 CuadroTexto"/>
          <p:cNvSpPr/>
          <p:nvPr/>
        </p:nvSpPr>
        <p:spPr>
          <a:xfrm>
            <a:off x="2576160" y="46432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Estati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4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DE10-00BC-4E5F-B55D-1DD10633CF9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3272" t="0" r="0" b="0"/>
          <a:stretch/>
        </p:blipFill>
        <p:spPr>
          <a:xfrm>
            <a:off x="2771640" y="361800"/>
            <a:ext cx="6108840" cy="6162840"/>
          </a:xfrm>
          <a:prstGeom prst="rect">
            <a:avLst/>
          </a:prstGeom>
          <a:ln w="0">
            <a:noFill/>
          </a:ln>
        </p:spPr>
      </p:pic>
      <p:sp>
        <p:nvSpPr>
          <p:cNvPr id="884" name="Rectangle 4"/>
          <p:cNvSpPr/>
          <p:nvPr/>
        </p:nvSpPr>
        <p:spPr>
          <a:xfrm>
            <a:off x="30240" y="189000"/>
            <a:ext cx="2876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00"/>
                </a:solidFill>
                <a:latin typeface="Arial Narrow"/>
              </a:rPr>
              <a:t>FORMACIÓN DE ISOPRENOIDES ACTI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120600" y="1730520"/>
            <a:ext cx="25066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partir de MEVALONATO se obtienen los </a:t>
            </a: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ISOPRENOS ACTIV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estos pasos implican gasto de </a:t>
            </a:r>
            <a:r>
              <a:rPr b="0" lang="es-ES" sz="2000" spc="-1" strike="noStrike">
                <a:solidFill>
                  <a:srgbClr val="ffc000"/>
                </a:solidFill>
                <a:latin typeface="Arial"/>
              </a:rPr>
              <a:t>ATP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SOPRENOS se obtienen por reacciones 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ABEZA-COL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7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ABB6-F58F-4802-ABD1-3BA4850B403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Group 10"/>
          <p:cNvGrpSpPr/>
          <p:nvPr/>
        </p:nvGrpSpPr>
        <p:grpSpPr>
          <a:xfrm>
            <a:off x="2916360" y="1268280"/>
            <a:ext cx="5974920" cy="5184360"/>
            <a:chOff x="2916360" y="1268280"/>
            <a:chExt cx="5974920" cy="5184360"/>
          </a:xfrm>
        </p:grpSpPr>
        <p:pic>
          <p:nvPicPr>
            <p:cNvPr id="888" name="Picture 8" descr=""/>
            <p:cNvPicPr/>
            <p:nvPr/>
          </p:nvPicPr>
          <p:blipFill>
            <a:blip r:embed="rId1"/>
            <a:stretch/>
          </p:blipFill>
          <p:spPr>
            <a:xfrm>
              <a:off x="2916360" y="1268280"/>
              <a:ext cx="5974920" cy="28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9" descr=""/>
            <p:cNvPicPr/>
            <p:nvPr/>
          </p:nvPicPr>
          <p:blipFill>
            <a:blip r:embed="rId2"/>
            <a:srcRect l="0" t="27819" r="0" b="0"/>
            <a:stretch/>
          </p:blipFill>
          <p:spPr>
            <a:xfrm>
              <a:off x="2916360" y="4120920"/>
              <a:ext cx="5974920" cy="233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58560" y="441360"/>
            <a:ext cx="856908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CONDENSACIÓN DE LOS ISOPRENOS ACTIVAD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25210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Isoprenos activados reaccionan entre sí para formar ISOPRENOIDES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10 C: </a:t>
            </a: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GERANIL-P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15 C: </a:t>
            </a:r>
            <a:r>
              <a:rPr b="1" lang="es-ES" sz="2200" spc="-1" strike="noStrike">
                <a:solidFill>
                  <a:srgbClr val="00ff00"/>
                </a:solidFill>
                <a:latin typeface="Arial"/>
              </a:rPr>
              <a:t>FARNESIL-P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Imagen 2" descr=""/>
          <p:cNvPicPr/>
          <p:nvPr/>
        </p:nvPicPr>
        <p:blipFill>
          <a:blip r:embed="rId1"/>
          <a:srcRect l="-7983" t="0" r="0" b="0"/>
          <a:stretch/>
        </p:blipFill>
        <p:spPr>
          <a:xfrm>
            <a:off x="108000" y="333360"/>
            <a:ext cx="6267240" cy="6459480"/>
          </a:xfrm>
          <a:prstGeom prst="rect">
            <a:avLst/>
          </a:prstGeom>
          <a:ln w="0">
            <a:noFill/>
          </a:ln>
        </p:spPr>
      </p:pic>
      <p:sp>
        <p:nvSpPr>
          <p:cNvPr id="893" name="Cuadro de texto 3"/>
          <p:cNvSpPr/>
          <p:nvPr/>
        </p:nvSpPr>
        <p:spPr>
          <a:xfrm>
            <a:off x="6443640" y="1484280"/>
            <a:ext cx="2590920" cy="4077360"/>
          </a:xfrm>
          <a:prstGeom prst="rect">
            <a:avLst/>
          </a:prstGeom>
          <a:solidFill>
            <a:srgbClr val="f6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292934"/>
                </a:solidFill>
                <a:uFillTx/>
                <a:latin typeface="Arial Rounded MT Bold"/>
              </a:rPr>
              <a:t>Farnesil-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34"/>
                </a:solidFill>
                <a:latin typeface="Arial Rounded MT Bold"/>
              </a:rPr>
              <a:t>Intermediario de la síntesis de carotenoides, Escualeno y de la biosíntesis de esterole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292934"/>
                </a:solidFill>
                <a:latin typeface="Arial Rounded MT Bold"/>
              </a:rPr>
              <a:t>Es también un sustrato en la adición de un grupo farnesilo a las proteín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1 CuadroTexto"/>
          <p:cNvSpPr/>
          <p:nvPr/>
        </p:nvSpPr>
        <p:spPr>
          <a:xfrm>
            <a:off x="6443640" y="3556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Isoprenoides activ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3C44-B915-4CDE-8862-145D3EA1956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32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Arial Rounded MT Bold"/>
              </a:rPr>
              <a:t>. II) 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OBTENCIÓN DE ESCUALEN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97" name="Picture 18" descr=""/>
          <p:cNvPicPr/>
          <p:nvPr/>
        </p:nvPicPr>
        <p:blipFill>
          <a:blip r:embed="rId1"/>
          <a:stretch/>
        </p:blipFill>
        <p:spPr>
          <a:xfrm>
            <a:off x="2273400" y="1484280"/>
            <a:ext cx="6804000" cy="4969080"/>
          </a:xfrm>
          <a:prstGeom prst="rect">
            <a:avLst/>
          </a:prstGeom>
          <a:ln w="0">
            <a:noFill/>
          </a:ln>
        </p:spPr>
      </p:pic>
      <p:sp>
        <p:nvSpPr>
          <p:cNvPr id="898" name="Text Box 21"/>
          <p:cNvSpPr/>
          <p:nvPr/>
        </p:nvSpPr>
        <p:spPr>
          <a:xfrm>
            <a:off x="0" y="2349360"/>
            <a:ext cx="2195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os moléculas de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FARNESIL-PP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e condensan para formar una de 30 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00"/>
                </a:solidFill>
                <a:latin typeface="Arial"/>
              </a:rPr>
              <a:t>ESCUALEN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que se asimila a la estructura abierta del COLESTE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02D2-D783-431F-AA52-C97648CD47D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-3600" y="115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Rounded MT Bold"/>
              </a:rPr>
              <a:t>III) </a:t>
            </a:r>
            <a:r>
              <a:rPr b="1" lang="es-ES" sz="2400" spc="-1" strike="noStrike">
                <a:solidFill>
                  <a:srgbClr val="ffffcc"/>
                </a:solidFill>
                <a:latin typeface="Arial Narrow"/>
              </a:rPr>
              <a:t>CICLIZACIÓN DEL ESCUALENO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284328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SCUALE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 cicla para formar 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OLESTERO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n una serie de etapas que involucra otros </a:t>
            </a: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estero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mo intermedi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ES" sz="2000" spc="-1" strike="noStrike">
                <a:solidFill>
                  <a:srgbClr val="ffc000"/>
                </a:solidFill>
                <a:latin typeface="Arial"/>
              </a:rPr>
              <a:t>veget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no sintetizan coleste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as las enzimas de esta etapa se encuentran en las membranas del R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Picture 7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5952960" cy="6234120"/>
          </a:xfrm>
          <a:prstGeom prst="rect">
            <a:avLst/>
          </a:prstGeom>
          <a:ln w="0">
            <a:noFill/>
          </a:ln>
        </p:spPr>
      </p:pic>
      <p:sp>
        <p:nvSpPr>
          <p:cNvPr id="903" name="5 CuadroTexto"/>
          <p:cNvSpPr/>
          <p:nvPr/>
        </p:nvSpPr>
        <p:spPr>
          <a:xfrm>
            <a:off x="6789600" y="2835360"/>
            <a:ext cx="7239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Times New Roman"/>
              </a:rPr>
              <a:t>Hong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6 CuadroTexto"/>
          <p:cNvSpPr/>
          <p:nvPr/>
        </p:nvSpPr>
        <p:spPr>
          <a:xfrm>
            <a:off x="4224960" y="2822400"/>
            <a:ext cx="6256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Times New Roman"/>
              </a:rPr>
              <a:t>Planta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7 CuadroTexto"/>
          <p:cNvSpPr/>
          <p:nvPr/>
        </p:nvSpPr>
        <p:spPr>
          <a:xfrm>
            <a:off x="5170320" y="2990880"/>
            <a:ext cx="766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Times New Roman"/>
              </a:rPr>
              <a:t>Anima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1 CuadroTexto"/>
          <p:cNvSpPr/>
          <p:nvPr/>
        </p:nvSpPr>
        <p:spPr>
          <a:xfrm>
            <a:off x="7034400" y="6288120"/>
            <a:ext cx="53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(27C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7" name="Picture 2" descr=""/>
          <p:cNvPicPr/>
          <p:nvPr/>
        </p:nvPicPr>
        <p:blipFill>
          <a:blip r:embed="rId2"/>
          <a:stretch/>
        </p:blipFill>
        <p:spPr>
          <a:xfrm>
            <a:off x="6883560" y="5013360"/>
            <a:ext cx="536400" cy="3049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" descr=""/>
          <p:cNvPicPr/>
          <p:nvPr/>
        </p:nvPicPr>
        <p:blipFill>
          <a:blip r:embed="rId3"/>
          <a:stretch/>
        </p:blipFill>
        <p:spPr>
          <a:xfrm>
            <a:off x="6686640" y="907920"/>
            <a:ext cx="536400" cy="304920"/>
          </a:xfrm>
          <a:prstGeom prst="rect">
            <a:avLst/>
          </a:prstGeom>
          <a:ln w="0">
            <a:noFill/>
          </a:ln>
        </p:spPr>
      </p:pic>
      <p:sp>
        <p:nvSpPr>
          <p:cNvPr id="909" name="2 CuadroTexto"/>
          <p:cNvSpPr/>
          <p:nvPr/>
        </p:nvSpPr>
        <p:spPr>
          <a:xfrm>
            <a:off x="5952600" y="538632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(- 3 CO2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4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4EFE-E76F-4E38-B90B-FF9427C6EA2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1258920" y="1452600"/>
            <a:ext cx="6626160" cy="5300640"/>
          </a:xfrm>
          <a:prstGeom prst="rect">
            <a:avLst/>
          </a:prstGeom>
          <a:ln w="0">
            <a:noFill/>
          </a:ln>
        </p:spPr>
      </p:pic>
      <p:sp>
        <p:nvSpPr>
          <p:cNvPr id="912" name="6 Rectángulo"/>
          <p:cNvSpPr/>
          <p:nvPr/>
        </p:nvSpPr>
        <p:spPr>
          <a:xfrm>
            <a:off x="179280" y="434880"/>
            <a:ext cx="869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c000"/>
                </a:solidFill>
                <a:latin typeface="Arial Rounded MT Bold"/>
              </a:rPr>
              <a:t>LAS CÉLULAS TAMBIÉN OBTIENEN SU COLESTEROL MEDIANTE ENDOCITOSIS DE LIPOPROTEÍNAS DE BAJA DENSIDAD MEDIADA POR EL RECEPTOR DE LD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E52D-792B-452C-9FE6-07C0289ACF4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Picture 2" descr=""/>
          <p:cNvPicPr/>
          <p:nvPr/>
        </p:nvPicPr>
        <p:blipFill>
          <a:blip r:embed="rId1"/>
          <a:stretch/>
        </p:blipFill>
        <p:spPr>
          <a:xfrm>
            <a:off x="684360" y="1054080"/>
            <a:ext cx="7559640" cy="5454720"/>
          </a:xfrm>
          <a:prstGeom prst="rect">
            <a:avLst/>
          </a:prstGeom>
          <a:ln w="0">
            <a:noFill/>
          </a:ln>
        </p:spPr>
      </p:pic>
      <p:sp>
        <p:nvSpPr>
          <p:cNvPr id="915" name="3 CuadroTexto"/>
          <p:cNvSpPr/>
          <p:nvPr/>
        </p:nvSpPr>
        <p:spPr>
          <a:xfrm flipH="1">
            <a:off x="1065960" y="404640"/>
            <a:ext cx="69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ESTERIFICACIÓN DEL COLEST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1 CuadroTexto"/>
          <p:cNvSpPr/>
          <p:nvPr/>
        </p:nvSpPr>
        <p:spPr>
          <a:xfrm>
            <a:off x="5271840" y="321804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(Ac. Linoleic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2 CuadroTexto"/>
          <p:cNvSpPr/>
          <p:nvPr/>
        </p:nvSpPr>
        <p:spPr>
          <a:xfrm>
            <a:off x="2401200" y="256536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3436-EB57-45E7-9D57-5AB163947D4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Picture 2" descr=""/>
          <p:cNvPicPr/>
          <p:nvPr/>
        </p:nvPicPr>
        <p:blipFill>
          <a:blip r:embed="rId1"/>
          <a:stretch/>
        </p:blipFill>
        <p:spPr>
          <a:xfrm>
            <a:off x="357120" y="268200"/>
            <a:ext cx="842976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Regulación de la Biosíntesis de Colesterol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1" name="Cuadro de texto 5"/>
          <p:cNvSpPr/>
          <p:nvPr/>
        </p:nvSpPr>
        <p:spPr>
          <a:xfrm>
            <a:off x="250920" y="2997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HMG-CoA reduc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ínea 6"/>
          <p:cNvSpPr/>
          <p:nvPr/>
        </p:nvSpPr>
        <p:spPr>
          <a:xfrm flipV="1">
            <a:off x="3348000" y="2565360"/>
            <a:ext cx="1224000" cy="4320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Elipse 7"/>
          <p:cNvSpPr/>
          <p:nvPr/>
        </p:nvSpPr>
        <p:spPr>
          <a:xfrm rot="20960400">
            <a:off x="2895480" y="2060640"/>
            <a:ext cx="1511280" cy="64764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R.Coval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Línea 8"/>
          <p:cNvSpPr/>
          <p:nvPr/>
        </p:nvSpPr>
        <p:spPr>
          <a:xfrm>
            <a:off x="3419640" y="3645000"/>
            <a:ext cx="1296720" cy="64764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Elipse 9"/>
          <p:cNvSpPr/>
          <p:nvPr/>
        </p:nvSpPr>
        <p:spPr>
          <a:xfrm rot="1550400">
            <a:off x="2987640" y="4005000"/>
            <a:ext cx="1522440" cy="67464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R. Alosté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Elipse 10"/>
          <p:cNvSpPr/>
          <p:nvPr/>
        </p:nvSpPr>
        <p:spPr>
          <a:xfrm>
            <a:off x="4716360" y="227664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Cuadro de texto 11"/>
          <p:cNvSpPr/>
          <p:nvPr/>
        </p:nvSpPr>
        <p:spPr>
          <a:xfrm>
            <a:off x="5796000" y="3500280"/>
            <a:ext cx="2376360" cy="1008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Mevalon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Colesterol     Ácidos bilia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Cuadro de texto 12"/>
          <p:cNvSpPr/>
          <p:nvPr/>
        </p:nvSpPr>
        <p:spPr>
          <a:xfrm>
            <a:off x="5724360" y="4797360"/>
            <a:ext cx="2376720" cy="703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Medicamentos: Lovastat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Elipse 13"/>
          <p:cNvSpPr/>
          <p:nvPr/>
        </p:nvSpPr>
        <p:spPr>
          <a:xfrm>
            <a:off x="4788000" y="407664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Elipse 14"/>
          <p:cNvSpPr/>
          <p:nvPr/>
        </p:nvSpPr>
        <p:spPr>
          <a:xfrm>
            <a:off x="4788000" y="1557360"/>
            <a:ext cx="792000" cy="50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15"/>
          <p:cNvSpPr/>
          <p:nvPr/>
        </p:nvSpPr>
        <p:spPr>
          <a:xfrm>
            <a:off x="5867280" y="1700280"/>
            <a:ext cx="1297080" cy="3988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Cuadro de texto 16"/>
          <p:cNvSpPr/>
          <p:nvPr/>
        </p:nvSpPr>
        <p:spPr>
          <a:xfrm>
            <a:off x="5867280" y="2421000"/>
            <a:ext cx="1584360" cy="3988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Glucag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ínea 17"/>
          <p:cNvSpPr/>
          <p:nvPr/>
        </p:nvSpPr>
        <p:spPr>
          <a:xfrm>
            <a:off x="1835280" y="3645000"/>
            <a:ext cx="0" cy="158436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Elipse 18"/>
          <p:cNvSpPr/>
          <p:nvPr/>
        </p:nvSpPr>
        <p:spPr>
          <a:xfrm>
            <a:off x="684360" y="537372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Cuadro de texto 19"/>
          <p:cNvSpPr/>
          <p:nvPr/>
        </p:nvSpPr>
        <p:spPr>
          <a:xfrm>
            <a:off x="1979640" y="5589720"/>
            <a:ext cx="1728720" cy="3988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C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Elipse 20"/>
          <p:cNvSpPr/>
          <p:nvPr/>
        </p:nvSpPr>
        <p:spPr>
          <a:xfrm>
            <a:off x="250920" y="3860640"/>
            <a:ext cx="1728720" cy="7905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ranscrip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1 CuadroTexto"/>
          <p:cNvSpPr/>
          <p:nvPr/>
        </p:nvSpPr>
        <p:spPr>
          <a:xfrm>
            <a:off x="1526760" y="39528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Arial Rounded MT Bold"/>
              </a:rPr>
              <a:t>Regulación de la Biosíntesis de Colest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2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CF75-7E79-47EE-9B74-72A9FA7AB68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2" descr=""/>
          <p:cNvPicPr/>
          <p:nvPr/>
        </p:nvPicPr>
        <p:blipFill>
          <a:blip r:embed="rId1"/>
          <a:stretch/>
        </p:blipFill>
        <p:spPr>
          <a:xfrm>
            <a:off x="385920" y="316080"/>
            <a:ext cx="8372160" cy="62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1A6E-6B78-460E-A486-1113EED00D2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3 CuadroTexto"/>
          <p:cNvSpPr/>
          <p:nvPr/>
        </p:nvSpPr>
        <p:spPr>
          <a:xfrm>
            <a:off x="539640" y="333360"/>
            <a:ext cx="828036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Arial"/>
              </a:rPr>
              <a:t>CATABOLISMO Y EXCRECIÓN DE C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Nuestro organismo no tiene las enzimas para degradar al ciclopentanoperhidrofenantre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l hígado es el encargado de eliminar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La mayor parte en forma de ácidos bilia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Arial"/>
              </a:rPr>
              <a:t>ETAPAS DE LA SÍNTESIS DE ACIDOS BILI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Hidroxilación 7 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 de los esteroides precurs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Modificación de la estructura de los ani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Acortamiento y oxidación de la cadena late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Conjugación del ácido biliar con aminoác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71400" y="404280"/>
            <a:ext cx="778824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000"/>
                </a:solidFill>
                <a:latin typeface="Arial Rounded MT Bold"/>
              </a:rPr>
              <a:t>Sales biliares y emulsión de grasa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4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5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946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cól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ób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íl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sociac. con T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ICEL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ncreát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Cuadro de texto 15"/>
            <p:cNvSpPr/>
            <p:nvPr/>
          </p:nvSpPr>
          <p:spPr>
            <a:xfrm>
              <a:off x="7631280" y="258768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acilglicero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GRA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8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lipas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Péptido que forma complejo con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lip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DF5F-1941-445A-B3A5-FF8EA8DFC37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0" name="Picture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58240" cy="5910120"/>
          </a:xfrm>
          <a:prstGeom prst="rect">
            <a:avLst/>
          </a:prstGeom>
          <a:ln w="0">
            <a:noFill/>
          </a:ln>
        </p:spPr>
      </p:pic>
      <p:sp>
        <p:nvSpPr>
          <p:cNvPr id="961" name="2 CuadroTexto"/>
          <p:cNvSpPr/>
          <p:nvPr/>
        </p:nvSpPr>
        <p:spPr>
          <a:xfrm>
            <a:off x="2302200" y="3629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Rounded MT Bold"/>
              </a:rPr>
              <a:t>SALES Y ACIDOS BILIAR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Contienen 24 C y 2 ó 3 hidroxi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on anfip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gentes emulsion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ACIDOS BILIARES PRIMA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(Cólico y Quenodesoxicól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ACIDOS BILIARES SECUNDA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(Desoxicólico y Litocól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SALES BILIAR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LICINA Y TAUR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(Glicocólico ó taurocól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E9AE-D335-41C0-ADF6-E39AE8C502B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Picture 3" descr=""/>
          <p:cNvPicPr/>
          <p:nvPr/>
        </p:nvPicPr>
        <p:blipFill>
          <a:blip r:embed="rId1"/>
          <a:stretch/>
        </p:blipFill>
        <p:spPr>
          <a:xfrm>
            <a:off x="900000" y="87480"/>
            <a:ext cx="7344000" cy="65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1F13-8D1D-4EE3-96CB-08BA5DD0703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4 CuadroTexto"/>
          <p:cNvSpPr/>
          <p:nvPr/>
        </p:nvSpPr>
        <p:spPr>
          <a:xfrm>
            <a:off x="195120" y="189000"/>
            <a:ext cx="856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n hígado los ácidos biliares (AB) se conjugan con aminoácidos y así pasan a la vesícula bili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Puesto que la bilis contiene una cantidad importante de Na+ y K+ y el pH es alcalino, los AB se encuentran como sales biliares (SB)</a:t>
            </a: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así llegan al intest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n intestino las SB son en parte excretadas y en parte reabsorb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CICLO ENTEROHEPÁ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Lo que no se absorbe sufre en intestino la acción de bacterias de la flora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Se producen COPROSTANOL Y COLESTANOL </a:t>
            </a: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isómeros que representan los esteroles de materia fe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766E-89D1-428F-99A7-011FA5C8A85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652320" y="836640"/>
            <a:ext cx="8058240" cy="5329080"/>
          </a:xfrm>
          <a:prstGeom prst="rect">
            <a:avLst/>
          </a:prstGeom>
          <a:ln w="0">
            <a:noFill/>
          </a:ln>
        </p:spPr>
      </p:pic>
      <p:sp>
        <p:nvSpPr>
          <p:cNvPr id="970" name="2 CuadroTexto"/>
          <p:cNvSpPr/>
          <p:nvPr/>
        </p:nvSpPr>
        <p:spPr>
          <a:xfrm>
            <a:off x="5443560" y="5013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(Resin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c000"/>
                </a:solidFill>
                <a:uFillTx/>
                <a:latin typeface="Arial Narrow"/>
              </a:rPr>
              <a:t>Metabolismo de los Isopre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4" name="Cuadro de texto 3"/>
          <p:cNvSpPr/>
          <p:nvPr/>
        </p:nvSpPr>
        <p:spPr>
          <a:xfrm>
            <a:off x="250920" y="26370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soprenoides o terp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Cuadro de texto 4"/>
          <p:cNvSpPr/>
          <p:nvPr/>
        </p:nvSpPr>
        <p:spPr>
          <a:xfrm>
            <a:off x="2843280" y="1844640"/>
            <a:ext cx="1944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ero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Cuadro de texto 5"/>
          <p:cNvSpPr/>
          <p:nvPr/>
        </p:nvSpPr>
        <p:spPr>
          <a:xfrm>
            <a:off x="2916360" y="2997360"/>
            <a:ext cx="24476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Ácidos Bili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Cuadro de texto 6"/>
          <p:cNvSpPr/>
          <p:nvPr/>
        </p:nvSpPr>
        <p:spPr>
          <a:xfrm>
            <a:off x="2916360" y="4005360"/>
            <a:ext cx="36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taminas liposolu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7"/>
          <p:cNvSpPr/>
          <p:nvPr/>
        </p:nvSpPr>
        <p:spPr>
          <a:xfrm>
            <a:off x="3637080" y="4843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oli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8"/>
          <p:cNvSpPr/>
          <p:nvPr/>
        </p:nvSpPr>
        <p:spPr>
          <a:xfrm>
            <a:off x="3708360" y="52768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enzima 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9"/>
          <p:cNvSpPr/>
          <p:nvPr/>
        </p:nvSpPr>
        <p:spPr>
          <a:xfrm>
            <a:off x="3564000" y="5780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it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10"/>
          <p:cNvSpPr/>
          <p:nvPr/>
        </p:nvSpPr>
        <p:spPr>
          <a:xfrm>
            <a:off x="3635280" y="6308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iberel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Elipse 11"/>
          <p:cNvSpPr/>
          <p:nvPr/>
        </p:nvSpPr>
        <p:spPr>
          <a:xfrm>
            <a:off x="5794200" y="1197000"/>
            <a:ext cx="2303640" cy="1368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upo 12"/>
          <p:cNvGrpSpPr/>
          <p:nvPr/>
        </p:nvGrpSpPr>
        <p:grpSpPr>
          <a:xfrm>
            <a:off x="5651640" y="1341360"/>
            <a:ext cx="2519280" cy="1034640"/>
            <a:chOff x="5651640" y="1341360"/>
            <a:chExt cx="2519280" cy="1034640"/>
          </a:xfrm>
        </p:grpSpPr>
        <p:sp>
          <p:nvSpPr>
            <p:cNvPr id="814" name="Cuadro de texto 13"/>
            <p:cNvSpPr/>
            <p:nvPr/>
          </p:nvSpPr>
          <p:spPr>
            <a:xfrm>
              <a:off x="5651640" y="1341360"/>
              <a:ext cx="24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Cuadro de texto 14"/>
            <p:cNvSpPr/>
            <p:nvPr/>
          </p:nvSpPr>
          <p:spPr>
            <a:xfrm>
              <a:off x="5722920" y="191628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ormon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6" name="Grupo 15"/>
          <p:cNvGrpSpPr/>
          <p:nvPr/>
        </p:nvGrpSpPr>
        <p:grpSpPr>
          <a:xfrm>
            <a:off x="5580000" y="2565360"/>
            <a:ext cx="3455640" cy="1368000"/>
            <a:chOff x="5580000" y="2565360"/>
            <a:chExt cx="3455640" cy="1368000"/>
          </a:xfrm>
        </p:grpSpPr>
        <p:sp>
          <p:nvSpPr>
            <p:cNvPr id="817" name="Elipse 16"/>
            <p:cNvSpPr/>
            <p:nvPr/>
          </p:nvSpPr>
          <p:spPr>
            <a:xfrm>
              <a:off x="5580000" y="2565360"/>
              <a:ext cx="3453840" cy="13680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uadro de texto 17"/>
            <p:cNvSpPr/>
            <p:nvPr/>
          </p:nvSpPr>
          <p:spPr>
            <a:xfrm>
              <a:off x="5730480" y="2724840"/>
              <a:ext cx="33051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. cólico, desoxicól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Quenodesoxicól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Elipse 18"/>
          <p:cNvSpPr/>
          <p:nvPr/>
        </p:nvSpPr>
        <p:spPr>
          <a:xfrm>
            <a:off x="5219640" y="4508640"/>
            <a:ext cx="1728720" cy="792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, D, E y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" name="Grupo 19"/>
          <p:cNvGrpSpPr/>
          <p:nvPr/>
        </p:nvGrpSpPr>
        <p:grpSpPr>
          <a:xfrm>
            <a:off x="144360" y="4724280"/>
            <a:ext cx="3203640" cy="1647720"/>
            <a:chOff x="144360" y="4724280"/>
            <a:chExt cx="3203640" cy="1647720"/>
          </a:xfrm>
        </p:grpSpPr>
        <p:pic>
          <p:nvPicPr>
            <p:cNvPr id="821" name="Imagen 20" descr=""/>
            <p:cNvPicPr/>
            <p:nvPr/>
          </p:nvPicPr>
          <p:blipFill>
            <a:blip r:embed="rId7"/>
            <a:stretch/>
          </p:blipFill>
          <p:spPr>
            <a:xfrm>
              <a:off x="144360" y="4724280"/>
              <a:ext cx="320364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Cuadro de texto 21"/>
            <p:cNvSpPr/>
            <p:nvPr/>
          </p:nvSpPr>
          <p:spPr>
            <a:xfrm>
              <a:off x="971280" y="5949720"/>
              <a:ext cx="1346400" cy="42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PRE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7B0D-B170-4E33-973E-3CD79E9D07A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3 CuadroTexto"/>
          <p:cNvSpPr/>
          <p:nvPr/>
        </p:nvSpPr>
        <p:spPr>
          <a:xfrm>
            <a:off x="324000" y="249120"/>
            <a:ext cx="8280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L COLESTEROL CIRCULA EN EL PLASMA </a:t>
            </a:r>
            <a:r>
              <a:rPr b="1" lang="es-MX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STERIFICADO CON AG (AC. OLEIC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LIB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PROPORCIÓN 3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CE </a:t>
            </a:r>
            <a:r>
              <a:rPr b="1" lang="es-MX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 CIRCULA UNIDO A L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C EXÓGENO </a:t>
            </a:r>
            <a:r>
              <a:rPr b="1" lang="es-MX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 QUILOMICR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C ENDÓGENO </a:t>
            </a:r>
            <a:r>
              <a:rPr b="1" lang="es-MX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 L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LA BIOSÍNTESIS DE COLESTEROL OCURRE EN TODOS LOS ÓRGANOS: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HÍG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INTEST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GLÁNDULAS SUPRARRE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GÓ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TEJIDO MUS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ADIP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UN ADULTO NORMAL PRODUCE ALREDEDOR DE 1 G DE C/ 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8504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METABOLISMO DEL COLESTEROL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Estructura Química del Colester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26" name="Imagen 3" descr="fi19p17"/>
          <p:cNvPicPr/>
          <p:nvPr/>
        </p:nvPicPr>
        <p:blipFill>
          <a:blip r:embed="rId1"/>
          <a:srcRect l="13517" t="63605" r="13386" b="4452"/>
          <a:stretch/>
        </p:blipFill>
        <p:spPr>
          <a:xfrm>
            <a:off x="325440" y="4111560"/>
            <a:ext cx="3746520" cy="2363760"/>
          </a:xfrm>
          <a:prstGeom prst="rect">
            <a:avLst/>
          </a:prstGeom>
          <a:ln w="0">
            <a:noFill/>
          </a:ln>
        </p:spPr>
      </p:pic>
      <p:grpSp>
        <p:nvGrpSpPr>
          <p:cNvPr id="827" name="Grupo 8"/>
          <p:cNvGrpSpPr/>
          <p:nvPr/>
        </p:nvGrpSpPr>
        <p:grpSpPr>
          <a:xfrm>
            <a:off x="250920" y="1549440"/>
            <a:ext cx="3528720" cy="2310840"/>
            <a:chOff x="250920" y="1549440"/>
            <a:chExt cx="3528720" cy="2310840"/>
          </a:xfrm>
        </p:grpSpPr>
        <p:pic>
          <p:nvPicPr>
            <p:cNvPr id="828" name="Imagen 4" descr="fi19p17"/>
            <p:cNvPicPr/>
            <p:nvPr/>
          </p:nvPicPr>
          <p:blipFill>
            <a:blip r:embed="rId2"/>
            <a:srcRect l="24003" t="0" r="24252" b="79141"/>
            <a:stretch/>
          </p:blipFill>
          <p:spPr>
            <a:xfrm>
              <a:off x="325080" y="1549440"/>
              <a:ext cx="3078720" cy="18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Cuadro de texto 7"/>
            <p:cNvSpPr/>
            <p:nvPr/>
          </p:nvSpPr>
          <p:spPr>
            <a:xfrm>
              <a:off x="250920" y="3522960"/>
              <a:ext cx="352872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292934"/>
                  </a:solidFill>
                  <a:latin typeface="Arial"/>
                </a:rPr>
                <a:t>Ciclopentanoperhidrofenantre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Grupo 14"/>
          <p:cNvGrpSpPr/>
          <p:nvPr/>
        </p:nvGrpSpPr>
        <p:grpSpPr>
          <a:xfrm>
            <a:off x="4356000" y="2705040"/>
            <a:ext cx="4386240" cy="2814840"/>
            <a:chOff x="4356000" y="2705040"/>
            <a:chExt cx="4386240" cy="2814840"/>
          </a:xfrm>
        </p:grpSpPr>
        <p:pic>
          <p:nvPicPr>
            <p:cNvPr id="831" name="Imagen 9" descr="fi19p17"/>
            <p:cNvPicPr/>
            <p:nvPr/>
          </p:nvPicPr>
          <p:blipFill>
            <a:blip r:embed="rId3"/>
            <a:srcRect l="7480" t="26347" r="6693" b="35523"/>
            <a:stretch/>
          </p:blipFill>
          <p:spPr>
            <a:xfrm>
              <a:off x="4356000" y="2705040"/>
              <a:ext cx="438624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Cuadro de texto 12"/>
            <p:cNvSpPr/>
            <p:nvPr/>
          </p:nvSpPr>
          <p:spPr>
            <a:xfrm>
              <a:off x="5792400" y="5079960"/>
              <a:ext cx="165600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292934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4 CuadroTexto"/>
          <p:cNvSpPr/>
          <p:nvPr/>
        </p:nvSpPr>
        <p:spPr>
          <a:xfrm>
            <a:off x="179280" y="620640"/>
            <a:ext cx="8640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ESQUEMA GENERAL DE LA SÍNTESIS DE C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Rounded MT Bold"/>
              </a:rPr>
              <a:t>Las enzimas que participan son citoplasmá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Rounded MT Bold"/>
              </a:rPr>
              <a:t>Con excepción de la ESCUALENO OXIDASA que es microso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Rounded MT Bold"/>
              </a:rPr>
              <a:t>Todos los átomos de carbono del colesterol provienen del grupo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ACETILO de un ACIL. C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Rounded MT Bold"/>
              </a:rPr>
              <a:t>NADPH  es el agente reductor en las reacciones de biosínt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1032-E72F-4412-9206-85A4248A36E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2 Rectángulo"/>
          <p:cNvSpPr/>
          <p:nvPr/>
        </p:nvSpPr>
        <p:spPr>
          <a:xfrm>
            <a:off x="179280" y="260280"/>
            <a:ext cx="85694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SE CONSIDERAN 3 ETAPAS EN LA RUTA DE BIOSÍNTESIS DE COLESTERO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. I) Conversión de acetatos en Mevalon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. II) Transformación de mevalónico en 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escual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. III) Conversión de escualeno en 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coleste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1C10-3D63-4E73-865C-333DD0417F3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95280" y="36792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Arial Narrow"/>
              </a:rPr>
              <a:t>BIOSINTESIS DE COLESTEROL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38" name="Picture 4" descr=""/>
          <p:cNvPicPr/>
          <p:nvPr/>
        </p:nvPicPr>
        <p:blipFill>
          <a:blip r:embed="rId1"/>
          <a:stretch/>
        </p:blipFill>
        <p:spPr>
          <a:xfrm>
            <a:off x="900000" y="1521000"/>
            <a:ext cx="2971800" cy="146664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7" descr=""/>
          <p:cNvPicPr/>
          <p:nvPr/>
        </p:nvPicPr>
        <p:blipFill>
          <a:blip r:embed="rId2"/>
          <a:stretch/>
        </p:blipFill>
        <p:spPr>
          <a:xfrm>
            <a:off x="3276720" y="3067200"/>
            <a:ext cx="5649840" cy="353988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10"/>
          <p:cNvSpPr/>
          <p:nvPr/>
        </p:nvSpPr>
        <p:spPr>
          <a:xfrm>
            <a:off x="4587840" y="1469880"/>
            <a:ext cx="437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SimHei"/>
              </a:rPr>
              <a:t>La estructura de 27 C se obtiene a partir de moléculas de acetil-Co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SimHei"/>
              </a:rPr>
              <a:t>Se condensan moléculas de acetil-CoA para obtener </a:t>
            </a:r>
            <a:r>
              <a:rPr b="1" lang="es-ES" sz="2000" spc="-1" strike="noStrike">
                <a:solidFill>
                  <a:srgbClr val="00ff00"/>
                </a:solidFill>
                <a:latin typeface="Arial Narrow"/>
                <a:ea typeface="SimHei"/>
              </a:rPr>
              <a:t>ISOPREN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SimHei"/>
              </a:rPr>
              <a:t> act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"/>
          <p:cNvSpPr/>
          <p:nvPr/>
        </p:nvSpPr>
        <p:spPr>
          <a:xfrm>
            <a:off x="149400" y="3998880"/>
            <a:ext cx="309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00"/>
                </a:solidFill>
                <a:latin typeface="Arial Narrow"/>
              </a:rPr>
              <a:t>Los C negros derivan del grupo metilo del acet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</a:rPr>
              <a:t>Los C rojos derivan del carboxilo del acet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5000" y="189000"/>
            <a:ext cx="7756560" cy="1054080"/>
          </a:xfrm>
          <a:prstGeom prst="rect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Arial Rounded MT Bold"/>
              </a:rPr>
              <a:t>Biosíntesis de Colesterol</a:t>
            </a:r>
            <a:br>
              <a:rPr sz="3600"/>
            </a:b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I</a:t>
            </a:r>
            <a:r>
              <a:rPr b="1" lang="es-MX" sz="2000" spc="-1" strike="noStrike">
                <a:solidFill>
                  <a:srgbClr val="ffff00"/>
                </a:solidFill>
                <a:latin typeface="Arial Rounded MT Bold"/>
              </a:rPr>
              <a:t>) CONVERSIÓN DE ACETATOS EN MEVALONATO.</a:t>
            </a:r>
            <a:br>
              <a:rPr sz="3600"/>
            </a:b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43" name="Grupo 31"/>
          <p:cNvGrpSpPr/>
          <p:nvPr/>
        </p:nvGrpSpPr>
        <p:grpSpPr>
          <a:xfrm>
            <a:off x="1076400" y="1677960"/>
            <a:ext cx="4480920" cy="1030320"/>
            <a:chOff x="1076400" y="1677960"/>
            <a:chExt cx="4480920" cy="1030320"/>
          </a:xfrm>
        </p:grpSpPr>
        <p:sp>
          <p:nvSpPr>
            <p:cNvPr id="844" name="Cuadro de texto 8"/>
            <p:cNvSpPr/>
            <p:nvPr/>
          </p:nvSpPr>
          <p:spPr>
            <a:xfrm>
              <a:off x="1076400" y="18597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</a:rPr>
                <a:t>Precurs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Autoforma 10"/>
            <p:cNvSpPr/>
            <p:nvPr/>
          </p:nvSpPr>
          <p:spPr>
            <a:xfrm>
              <a:off x="3236760" y="1677960"/>
              <a:ext cx="431280" cy="1030320"/>
            </a:xfrm>
            <a:custGeom>
              <a:avLst/>
              <a:gdLst>
                <a:gd name="textAreaLeft" fmla="*/ 275760 w 431280"/>
                <a:gd name="textAreaRight" fmla="*/ 431640 w 431280"/>
                <a:gd name="textAreaTop" fmla="*/ 26640 h 1030320"/>
                <a:gd name="textAreaBottom" fmla="*/ 1003680 h 10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Cuadro de texto 11"/>
            <p:cNvSpPr/>
            <p:nvPr/>
          </p:nvSpPr>
          <p:spPr>
            <a:xfrm>
              <a:off x="3541320" y="1902240"/>
              <a:ext cx="201600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92934"/>
                  </a:solidFill>
                  <a:latin typeface="Arial"/>
                </a:rPr>
                <a:t>2 Acetil-Co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Grupo 32"/>
          <p:cNvGrpSpPr/>
          <p:nvPr/>
        </p:nvGrpSpPr>
        <p:grpSpPr>
          <a:xfrm>
            <a:off x="5724360" y="1773360"/>
            <a:ext cx="3022920" cy="825480"/>
            <a:chOff x="5724360" y="1773360"/>
            <a:chExt cx="3022920" cy="825480"/>
          </a:xfrm>
        </p:grpSpPr>
        <p:sp>
          <p:nvSpPr>
            <p:cNvPr id="848" name="Cuadro de texto 4"/>
            <p:cNvSpPr/>
            <p:nvPr/>
          </p:nvSpPr>
          <p:spPr>
            <a:xfrm>
              <a:off x="6659640" y="177336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92934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Autoforma 14"/>
            <p:cNvSpPr/>
            <p:nvPr/>
          </p:nvSpPr>
          <p:spPr>
            <a:xfrm>
              <a:off x="5724360" y="1773360"/>
              <a:ext cx="792360" cy="360360"/>
            </a:xfrm>
            <a:custGeom>
              <a:avLst/>
              <a:gdLst>
                <a:gd name="textAreaLeft" fmla="*/ 138600 w 792360"/>
                <a:gd name="textAreaRight" fmla="*/ 574560 w 792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Grupo 30"/>
          <p:cNvGrpSpPr/>
          <p:nvPr/>
        </p:nvGrpSpPr>
        <p:grpSpPr>
          <a:xfrm>
            <a:off x="539640" y="3044880"/>
            <a:ext cx="8064720" cy="1275480"/>
            <a:chOff x="539640" y="3044880"/>
            <a:chExt cx="8064720" cy="1275480"/>
          </a:xfrm>
        </p:grpSpPr>
        <p:pic>
          <p:nvPicPr>
            <p:cNvPr id="851" name="Imagen 12" descr="fi19p18"/>
            <p:cNvPicPr/>
            <p:nvPr/>
          </p:nvPicPr>
          <p:blipFill>
            <a:blip r:embed="rId1"/>
            <a:srcRect l="0" t="15842" r="0" b="61571"/>
            <a:stretch/>
          </p:blipFill>
          <p:spPr>
            <a:xfrm>
              <a:off x="4572000" y="3044880"/>
              <a:ext cx="40323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Cuadro de texto 15"/>
            <p:cNvSpPr/>
            <p:nvPr/>
          </p:nvSpPr>
          <p:spPr>
            <a:xfrm>
              <a:off x="539640" y="321300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92934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Línea 17"/>
            <p:cNvSpPr/>
            <p:nvPr/>
          </p:nvSpPr>
          <p:spPr>
            <a:xfrm>
              <a:off x="2843280" y="3573360"/>
              <a:ext cx="16574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Cuadro de texto 18"/>
            <p:cNvSpPr/>
            <p:nvPr/>
          </p:nvSpPr>
          <p:spPr>
            <a:xfrm>
              <a:off x="6588000" y="386064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92934"/>
                  </a:solidFill>
                  <a:latin typeface="Arial"/>
                </a:rPr>
                <a:t>HMG-Co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5" name="Grupo 35"/>
          <p:cNvGrpSpPr/>
          <p:nvPr/>
        </p:nvGrpSpPr>
        <p:grpSpPr>
          <a:xfrm>
            <a:off x="1476360" y="4292640"/>
            <a:ext cx="3311640" cy="1579320"/>
            <a:chOff x="1476360" y="4292640"/>
            <a:chExt cx="3311640" cy="1579320"/>
          </a:xfrm>
        </p:grpSpPr>
        <p:sp>
          <p:nvSpPr>
            <p:cNvPr id="856" name="Línea 21"/>
            <p:cNvSpPr/>
            <p:nvPr/>
          </p:nvSpPr>
          <p:spPr>
            <a:xfrm flipH="1">
              <a:off x="3059280" y="4292640"/>
              <a:ext cx="1728720" cy="7920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Cuadro de texto 22"/>
            <p:cNvSpPr/>
            <p:nvPr/>
          </p:nvSpPr>
          <p:spPr>
            <a:xfrm>
              <a:off x="1476360" y="5229360"/>
              <a:ext cx="1582920" cy="6426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Cuerpos cetón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Grupo 33"/>
          <p:cNvGrpSpPr/>
          <p:nvPr/>
        </p:nvGrpSpPr>
        <p:grpSpPr>
          <a:xfrm>
            <a:off x="4643280" y="4292640"/>
            <a:ext cx="3195720" cy="1008000"/>
            <a:chOff x="4643280" y="4292640"/>
            <a:chExt cx="3195720" cy="1008000"/>
          </a:xfrm>
        </p:grpSpPr>
        <p:sp>
          <p:nvSpPr>
            <p:cNvPr id="859" name="Línea 16"/>
            <p:cNvSpPr/>
            <p:nvPr/>
          </p:nvSpPr>
          <p:spPr>
            <a:xfrm>
              <a:off x="6227640" y="4292640"/>
              <a:ext cx="0" cy="10080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Cuadro de texto 20"/>
            <p:cNvSpPr/>
            <p:nvPr/>
          </p:nvSpPr>
          <p:spPr>
            <a:xfrm>
              <a:off x="6470640" y="452916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00"/>
                  </a:solidFill>
                  <a:latin typeface="Arial"/>
                </a:rPr>
                <a:t>HMG-CoA reduct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Cuadro de texto 23"/>
            <p:cNvSpPr/>
            <p:nvPr/>
          </p:nvSpPr>
          <p:spPr>
            <a:xfrm>
              <a:off x="4643280" y="4365720"/>
              <a:ext cx="165564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292934"/>
                  </a:solidFill>
                  <a:latin typeface="Arial"/>
                </a:rPr>
                <a:t>2 NADPH + 2H</a:t>
              </a:r>
              <a:r>
                <a:rPr b="1" lang="es-ES" sz="1600" spc="-1" strike="noStrike" baseline="30000">
                  <a:solidFill>
                    <a:srgbClr val="292934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Grupo 36"/>
          <p:cNvGrpSpPr/>
          <p:nvPr/>
        </p:nvGrpSpPr>
        <p:grpSpPr>
          <a:xfrm>
            <a:off x="3995640" y="4653000"/>
            <a:ext cx="4824360" cy="1972440"/>
            <a:chOff x="3995640" y="4653000"/>
            <a:chExt cx="4824360" cy="1972440"/>
          </a:xfrm>
        </p:grpSpPr>
        <p:pic>
          <p:nvPicPr>
            <p:cNvPr id="863" name="Imagen 3" descr="fi19p18"/>
            <p:cNvPicPr/>
            <p:nvPr/>
          </p:nvPicPr>
          <p:blipFill>
            <a:blip r:embed="rId2"/>
            <a:srcRect l="0" t="68700" r="0" b="10637"/>
            <a:stretch/>
          </p:blipFill>
          <p:spPr>
            <a:xfrm>
              <a:off x="4427640" y="5373720"/>
              <a:ext cx="4392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Cuadro de texto 19"/>
            <p:cNvSpPr/>
            <p:nvPr/>
          </p:nvSpPr>
          <p:spPr>
            <a:xfrm>
              <a:off x="6659640" y="616572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Mevalon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Cuadro de texto 24"/>
            <p:cNvSpPr/>
            <p:nvPr/>
          </p:nvSpPr>
          <p:spPr>
            <a:xfrm>
              <a:off x="3995640" y="4941720"/>
              <a:ext cx="201636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292934"/>
                  </a:solidFill>
                  <a:latin typeface="Arial"/>
                </a:rPr>
                <a:t>CoA-SH + 2NADP</a:t>
              </a:r>
              <a:r>
                <a:rPr b="1" lang="es-ES" sz="1600" spc="-1" strike="noStrike" baseline="30000">
                  <a:solidFill>
                    <a:srgbClr val="292934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Autoforma 25"/>
            <p:cNvSpPr/>
            <p:nvPr/>
          </p:nvSpPr>
          <p:spPr>
            <a:xfrm>
              <a:off x="5796000" y="4653000"/>
              <a:ext cx="288720" cy="360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63000 h 360360"/>
                <a:gd name="textAreaBottom" fmla="*/ 261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Grupo 37"/>
          <p:cNvGrpSpPr/>
          <p:nvPr/>
        </p:nvGrpSpPr>
        <p:grpSpPr>
          <a:xfrm>
            <a:off x="2771640" y="2924280"/>
            <a:ext cx="1656000" cy="1616400"/>
            <a:chOff x="2771640" y="2924280"/>
            <a:chExt cx="1656000" cy="1616400"/>
          </a:xfrm>
        </p:grpSpPr>
        <p:sp>
          <p:nvSpPr>
            <p:cNvPr id="868" name="Cuadro de texto 26"/>
            <p:cNvSpPr/>
            <p:nvPr/>
          </p:nvSpPr>
          <p:spPr>
            <a:xfrm>
              <a:off x="3059280" y="292428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00"/>
                  </a:solidFill>
                  <a:latin typeface="Arial"/>
                </a:rPr>
                <a:t>HMG-CoA sint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9" name="Grupo 29"/>
            <p:cNvGrpSpPr/>
            <p:nvPr/>
          </p:nvGrpSpPr>
          <p:grpSpPr>
            <a:xfrm>
              <a:off x="2771640" y="3644640"/>
              <a:ext cx="1440000" cy="896040"/>
              <a:chOff x="2771640" y="3644640"/>
              <a:chExt cx="1440000" cy="896040"/>
            </a:xfrm>
          </p:grpSpPr>
          <p:sp>
            <p:nvSpPr>
              <p:cNvPr id="870" name="Cuadro de texto 27"/>
              <p:cNvSpPr/>
              <p:nvPr/>
            </p:nvSpPr>
            <p:spPr>
              <a:xfrm>
                <a:off x="2771640" y="3860640"/>
                <a:ext cx="1440000" cy="680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292934"/>
                    </a:solidFill>
                    <a:latin typeface="Arial"/>
                  </a:rPr>
                  <a:t>Acetil-CoA+ H</a:t>
                </a:r>
                <a:r>
                  <a:rPr b="1" lang="es-ES" sz="1800" spc="-1" strike="noStrike" baseline="-25000">
                    <a:solidFill>
                      <a:srgbClr val="292934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292934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ínea 28"/>
              <p:cNvSpPr/>
              <p:nvPr/>
            </p:nvSpPr>
            <p:spPr>
              <a:xfrm flipV="1">
                <a:off x="3132000" y="3644640"/>
                <a:ext cx="432000" cy="14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Elipse 38"/>
          <p:cNvSpPr/>
          <p:nvPr/>
        </p:nvSpPr>
        <p:spPr>
          <a:xfrm>
            <a:off x="6084720" y="4724280"/>
            <a:ext cx="28908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2 CuadroTexto"/>
          <p:cNvSpPr/>
          <p:nvPr/>
        </p:nvSpPr>
        <p:spPr>
          <a:xfrm>
            <a:off x="6782040" y="62103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34"/>
                </a:solidFill>
                <a:latin typeface="Arial Rounded MT Bold"/>
              </a:rPr>
              <a:t>Mevalon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1 CuadroTexto"/>
          <p:cNvSpPr/>
          <p:nvPr/>
        </p:nvSpPr>
        <p:spPr>
          <a:xfrm>
            <a:off x="1617120" y="480204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Mitocond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2 CuadroTexto"/>
          <p:cNvSpPr/>
          <p:nvPr/>
        </p:nvSpPr>
        <p:spPr>
          <a:xfrm>
            <a:off x="1517040" y="229716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Citos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6:17Z</dcterms:created>
  <dc:creator>Fanny</dc:creator>
  <dc:description/>
  <dc:language>en-US</dc:language>
  <cp:lastModifiedBy>Preferred Customer</cp:lastModifiedBy>
  <dcterms:modified xsi:type="dcterms:W3CDTF">2012-05-08T19:14:48Z</dcterms:modified>
  <cp:revision>30</cp:revision>
  <dc:subject/>
  <dc:title>Metabolismo de los Isoprenoides</dc:title>
</cp:coreProperties>
</file>